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cepts:  Expressions are values, value depends o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ive positions of x, 2x, x/3 are always the same – location of x+1 varies depending on value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needs to be placed to determine the value of x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(x+1)/x show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s on the graph represent the relationship between two “quantities”, whose magnitudes are linear meas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xes are numbe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gnitude is distance from z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ts are different (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s fraction as operator (1/2 of 2 billion etc.) to extract meaning from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gges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ncourage participants to ask for help if they have trouble figuring out where there fraction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 class about density of fractions, whole, partitioning, equivalent fractions, unit fracito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de class into groups of  6 for nex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may notice math talk, questioning, partitioning, equivalence, defining the whole, justifying, strategies, conceptual understanding, teacher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43DB-97EA-40EC-A2F2-AB52DB3CE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E074-255F-412D-8EFD-9951D8FB6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A475-8856-4DE0-9EC5-6BEADBB92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03E3-5124-460B-8A26-4E99B7911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C2C2-B78A-412D-86DD-93CEE9762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5E74-328D-4ED0-A2B2-99DB2F521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4864-180E-4238-B1AD-5A65F8739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6280-65CA-4C92-A49D-24C68F63A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FA4E-7D92-4B6F-AF7A-115F0CD1B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3753-CBC9-4BFB-A720-87B333548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4481-BFB6-42FD-9953-73C17417F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4F93-8D8E-40E8-BE82-37CAD5BD2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D693-D783-444E-B948-42D95A5287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pminder.org/videos/religions-and-bab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2xby3%20v4.gsp" TargetMode="External"/><Relationship Id="rId2" Type="http://schemas.openxmlformats.org/officeDocument/2006/relationships/hyperlink" Target="file:///NumberLineFunctions%20V4.gs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AER_Steve%20McLean%20PS_S02_Grade%206_Lesson%20Action_28March12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687C-89A1-48DE-8947-2923A6C93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number line using the string provided.  Tape it up somewhere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the following values on the number line i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   x,    2x,      ,    x+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B47-08C9-4D8A-BC25-9373E739FC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3657600" y="4114800"/>
                <a:ext cx="266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5562720" y="4114800"/>
                <a:ext cx="761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209680" y="5257800"/>
            <a:ext cx="6186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 (cont.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tribu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444-EE1E-49BA-BDE5-639D062F1C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rig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B67-F4E3-4617-99B2-081D40C066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5"/>
          <p:cNvCxnSpPr/>
          <p:nvPr/>
        </p:nvCxnSpPr>
        <p:spPr>
          <a:xfrm>
            <a:off x="914400" y="335232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92" name="Straight Connector 7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2840" y="3514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7620120" y="3514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 Callout 24"/>
          <p:cNvSpPr/>
          <p:nvPr/>
        </p:nvSpPr>
        <p:spPr>
          <a:xfrm>
            <a:off x="5791320" y="228600"/>
            <a:ext cx="3352680" cy="1447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Unit Ra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7445-56DE-44C3-AFF9-4CD7DB770E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>
            <a:off x="685800" y="2057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Straight Connector 7"/>
          <p:cNvSpPr/>
          <p:nvPr/>
        </p:nvSpPr>
        <p:spPr>
          <a:xfrm>
            <a:off x="12193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060560" y="2219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9"/>
          <p:cNvSpPr/>
          <p:nvPr/>
        </p:nvSpPr>
        <p:spPr>
          <a:xfrm>
            <a:off x="3746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438280" y="191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9"/>
          <p:cNvSpPr/>
          <p:nvPr/>
        </p:nvSpPr>
        <p:spPr>
          <a:xfrm>
            <a:off x="49910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94360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723960" y="3200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Straight Connector 7"/>
          <p:cNvSpPr/>
          <p:nvPr/>
        </p:nvSpPr>
        <p:spPr>
          <a:xfrm>
            <a:off x="1257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62103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1098720" y="33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3784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9"/>
          <p:cNvSpPr/>
          <p:nvPr/>
        </p:nvSpPr>
        <p:spPr>
          <a:xfrm>
            <a:off x="247644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9"/>
          <p:cNvSpPr/>
          <p:nvPr/>
        </p:nvSpPr>
        <p:spPr>
          <a:xfrm>
            <a:off x="746748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5981760" y="3362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50547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7289640" y="336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6553080" y="60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 : 4/5 = ?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74422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725184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umber Lines and Graph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: 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p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connection between variable number lines and graphical represent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684C-A953-4ADD-BD8A-055EF18BD0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gets a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picks a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lue for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 1/2,  1,  2,  3,  4,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valua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following expressions for YOUR value of x, and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lo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ach one on your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333E-20AD-4139-B426-5032F32B20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911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 (cont’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76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bine your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a grap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ing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5AD-2469-4F89-A2B3-B79210FC49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6324480" y="609480"/>
                <a:ext cx="2362320" cy="480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eometer’s Sketchpad Dem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m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56F9-5DEC-4563-B9E6-51A67CB9D3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structions for Breakout 7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umber off (1-2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rt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-8 : Classroom 4 (down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9-15: Classroom 2 (up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6-22 HER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3-29:  Classroom A/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rive at 2:45 and Find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irculate through rooms, taking turns as the tour guid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D03D-0945-4004-BB2C-5757E82E5E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deas from today might you integrate into your work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stickies on chart paper on your wa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2F47-74D9-4589-8010-FF2382A433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s as linear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connections to fraction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number lines support key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number lines to algebra and graphical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63F6-8AF6-4DAC-9797-AB27978C13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 Meanings –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riable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lines and Graphica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72EB-7464-40A2-B1D7-E1166DD15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78B2-09AD-4443-8387-DAA4559AB7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f the following numbers to create a fraction  between 0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  3   4   5   6   7  8  10  12  15   20  30  40  50  100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a sticky note, and place it on the 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ching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lit your tables into groups or 2 or 3, and group cards by fraction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you are done, share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2879-EBB8-40A6-B4B6-371E9F2518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in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4479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b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for curriculum connections to fraction mean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curriculum wall  with colour coded to fraction mean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C190-D880-4E1B-AE74-E9017D78A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943600" y="1447920"/>
            <a:ext cx="28954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o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8305920" y="2144880"/>
            <a:ext cx="304560" cy="228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8305920" y="25146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8305920" y="3400560"/>
            <a:ext cx="304560" cy="2286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8305920" y="4495680"/>
            <a:ext cx="304560" cy="2286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8305920" y="483876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grade 6 class in action, and listen for math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ction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kind of listening is going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ir major miscon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90A8-2AFC-4CB6-A30B-7A88AEB613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Concepts:  Fractions o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nsity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is defined by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ha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tioning, uni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ip counting b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gnitude is linear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3BC-2899-40BE-B42B-0C42279F1C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a “number line” out of cubalinks.  Use colour to represent YOUR fraction (from the start of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647-9716-469F-896E-01B05AFAA1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cp:lastPrinted>2012-08-23T16:27:54Z</cp:lastPrinted>
  <dcterms:modified xsi:type="dcterms:W3CDTF">2012-08-23T17:14:33Z</dcterms:modified>
  <cp:revision>68</cp:revision>
  <dc:subject/>
  <dc:title>&lt;Title&gt;</dc:title>
</cp:coreProperties>
</file>